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move the slid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298F-537E-446E-9986-365C671F8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choi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would you use this? Between ISPs? At edg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96A04-C8FF-416E-8440-03B5C82393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4199040"/>
            <a:ext cx="81946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B0889-FC30-42F5-B201-4B9A2B93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32200" y="160020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419904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32200" y="419904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AEF4A-5CCE-4516-BE14-11195116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26384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04080" y="1600200"/>
            <a:ext cx="26384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4640" y="1600200"/>
            <a:ext cx="26384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4199040"/>
            <a:ext cx="26384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04080" y="4199040"/>
            <a:ext cx="26384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4640" y="4199040"/>
            <a:ext cx="26384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7DB6A-F5E3-4579-A3DB-300BC2D3ED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31B66-9074-4B60-B702-846C81FE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D377D-4709-49B9-9027-0609EB6C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988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32200" y="1600200"/>
            <a:ext cx="39988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6EE9F-49AA-42B7-BFDA-5830638D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9DA34-ED52-4117-9306-E8421DAFB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6DD22-36A2-4FF5-95C5-882DAF9CC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2200" y="1600200"/>
            <a:ext cx="39988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419904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A34E4-8C40-4B30-AAD6-201C5300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988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32200" y="160020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32200" y="419904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44ADC-380B-46FE-B8E1-E34561CF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2200" y="160020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4199040"/>
            <a:ext cx="81946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F98D6-E8B9-4F4D-872E-2FFDCDFB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3B82-9EF9-417C-A8AE-C7A8FA465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et Routing (cont.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1E671-2C0C-4E7E-9D2C-AB21FE2D891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A Logical View of the Internet?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1219320"/>
            <a:ext cx="42670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fter looking at RIP/OSPF descri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d-hosts connected to ro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ers exchange messages to determine conne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TRU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1981080"/>
            <a:ext cx="4038840" cy="381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562720" y="3048120"/>
            <a:ext cx="2209680" cy="1676160"/>
            <a:chOff x="5562720" y="3048120"/>
            <a:chExt cx="2209680" cy="1676160"/>
          </a:xfrm>
        </p:grpSpPr>
        <p:sp>
          <p:nvSpPr>
            <p:cNvPr id="69" name=""/>
            <p:cNvSpPr/>
            <p:nvPr/>
          </p:nvSpPr>
          <p:spPr>
            <a:xfrm>
              <a:off x="5562720" y="3434760"/>
              <a:ext cx="955440" cy="644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20920" y="3048120"/>
              <a:ext cx="1134720" cy="644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338880" y="3176640"/>
              <a:ext cx="1194120" cy="8380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637680" y="3628080"/>
              <a:ext cx="1134720" cy="8380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219720" y="3950640"/>
              <a:ext cx="1014840" cy="7736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682240" y="3756960"/>
              <a:ext cx="1014840" cy="709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6505560" y="3220920"/>
            <a:ext cx="266760" cy="26856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6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26120" y="2514600"/>
            <a:ext cx="266760" cy="26820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9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05560" y="43480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85000" y="2514600"/>
            <a:ext cx="266400" cy="26820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9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05560" y="37828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78800" y="4986360"/>
            <a:ext cx="26640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05520" y="4043520"/>
            <a:ext cx="268200" cy="269640"/>
          </a:xfrm>
          <a:custGeom>
            <a:avLst/>
            <a:gdLst/>
            <a:ahLst/>
            <a:rect l="l" t="t" r="r" b="b"/>
            <a:pathLst>
              <a:path w="169" h="170">
                <a:moveTo>
                  <a:pt x="0" y="168"/>
                </a:moveTo>
                <a:lnTo>
                  <a:pt x="169" y="170"/>
                </a:lnTo>
                <a:lnTo>
                  <a:pt x="169" y="0"/>
                </a:lnTo>
                <a:lnTo>
                  <a:pt x="0" y="0"/>
                </a:lnTo>
                <a:lnTo>
                  <a:pt x="0" y="170"/>
                </a:lnTo>
                <a:lnTo>
                  <a:pt x="0" y="170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05520" y="3522600"/>
            <a:ext cx="268200" cy="266760"/>
          </a:xfrm>
          <a:custGeom>
            <a:avLst/>
            <a:gdLst/>
            <a:ahLst/>
            <a:rect l="l" t="t" r="r" b="b"/>
            <a:pathLst>
              <a:path w="169" h="168">
                <a:moveTo>
                  <a:pt x="0" y="168"/>
                </a:moveTo>
                <a:lnTo>
                  <a:pt x="169" y="168"/>
                </a:lnTo>
                <a:lnTo>
                  <a:pt x="169" y="0"/>
                </a:lnTo>
                <a:lnTo>
                  <a:pt x="0" y="0"/>
                </a:lnTo>
                <a:lnTo>
                  <a:pt x="0" y="168"/>
                </a:lnTo>
                <a:lnTo>
                  <a:pt x="0" y="168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45240" y="37828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89640" y="37828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16760" y="2782800"/>
            <a:ext cx="431640" cy="438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727320" y="2782800"/>
            <a:ext cx="430200" cy="438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011640" y="3352680"/>
            <a:ext cx="493560" cy="493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12000" y="3914640"/>
            <a:ext cx="49356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72320" y="3914640"/>
            <a:ext cx="51264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775560" y="3956040"/>
            <a:ext cx="514080" cy="5158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78360"/>
            <a:ext cx="493560" cy="493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6730560" y="4614480"/>
            <a:ext cx="179640" cy="368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73720" y="3654360"/>
            <a:ext cx="368280" cy="176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373720" y="4005360"/>
            <a:ext cx="371520" cy="172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56400" y="3914640"/>
            <a:ext cx="50976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01000" y="3772080"/>
            <a:ext cx="266760" cy="26640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78920" y="316080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16800" y="373392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78920" y="428148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78920" y="373392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41040" y="373392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Click To Preview"/>
          <p:cNvPicPr/>
          <p:nvPr/>
        </p:nvPicPr>
        <p:blipFill>
          <a:blip r:embed="rId1"/>
          <a:stretch/>
        </p:blipFill>
        <p:spPr>
          <a:xfrm>
            <a:off x="6934320" y="2286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Click To Preview"/>
          <p:cNvPicPr/>
          <p:nvPr/>
        </p:nvPicPr>
        <p:blipFill>
          <a:blip r:embed="rId2"/>
          <a:stretch/>
        </p:blipFill>
        <p:spPr>
          <a:xfrm>
            <a:off x="5867280" y="2286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Click To Preview"/>
          <p:cNvPicPr/>
          <p:nvPr/>
        </p:nvPicPr>
        <p:blipFill>
          <a:blip r:embed="rId3"/>
          <a:stretch/>
        </p:blipFill>
        <p:spPr>
          <a:xfrm>
            <a:off x="7848720" y="3581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Click To Preview"/>
          <p:cNvPicPr/>
          <p:nvPr/>
        </p:nvPicPr>
        <p:blipFill>
          <a:blip r:embed="rId4"/>
          <a:stretch/>
        </p:blipFill>
        <p:spPr>
          <a:xfrm>
            <a:off x="4876920" y="3276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Click To Preview"/>
          <p:cNvPicPr/>
          <p:nvPr/>
        </p:nvPicPr>
        <p:blipFill>
          <a:blip r:embed="rId5"/>
          <a:stretch/>
        </p:blipFill>
        <p:spPr>
          <a:xfrm>
            <a:off x="4876920" y="3886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Click To Preview"/>
          <p:cNvPicPr/>
          <p:nvPr/>
        </p:nvPicPr>
        <p:blipFill>
          <a:blip r:embed="rId6"/>
          <a:stretch/>
        </p:blipFill>
        <p:spPr>
          <a:xfrm>
            <a:off x="6629400" y="4876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013A5-4998-44B0-9D9A-D3B1CC02D6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114800" y="1905120"/>
            <a:ext cx="464832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638680" y="3048120"/>
            <a:ext cx="2209680" cy="1676160"/>
            <a:chOff x="5638680" y="3048120"/>
            <a:chExt cx="2209680" cy="1676160"/>
          </a:xfrm>
        </p:grpSpPr>
        <p:sp>
          <p:nvSpPr>
            <p:cNvPr id="110" name=""/>
            <p:cNvSpPr/>
            <p:nvPr/>
          </p:nvSpPr>
          <p:spPr>
            <a:xfrm>
              <a:off x="5638680" y="3434760"/>
              <a:ext cx="955440" cy="644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96880" y="3048120"/>
              <a:ext cx="1134720" cy="644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15200" y="3176640"/>
              <a:ext cx="1194480" cy="8380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13640" y="3628080"/>
              <a:ext cx="1134720" cy="8380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95680" y="3950640"/>
              <a:ext cx="1015200" cy="7736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58200" y="3756960"/>
              <a:ext cx="1015200" cy="709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581880" y="3220920"/>
            <a:ext cx="266760" cy="26856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6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02440" y="2514600"/>
            <a:ext cx="266760" cy="26820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9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81880" y="43480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60960" y="2514600"/>
            <a:ext cx="266760" cy="26820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9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81880" y="37828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4760" y="498636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81480" y="4043520"/>
            <a:ext cx="268560" cy="269640"/>
          </a:xfrm>
          <a:custGeom>
            <a:avLst/>
            <a:gdLst/>
            <a:ahLst/>
            <a:rect l="l" t="t" r="r" b="b"/>
            <a:pathLst>
              <a:path w="169" h="170">
                <a:moveTo>
                  <a:pt x="0" y="168"/>
                </a:moveTo>
                <a:lnTo>
                  <a:pt x="169" y="170"/>
                </a:lnTo>
                <a:lnTo>
                  <a:pt x="169" y="0"/>
                </a:lnTo>
                <a:lnTo>
                  <a:pt x="0" y="0"/>
                </a:lnTo>
                <a:lnTo>
                  <a:pt x="0" y="170"/>
                </a:lnTo>
                <a:lnTo>
                  <a:pt x="0" y="170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81480" y="3522600"/>
            <a:ext cx="268560" cy="266760"/>
          </a:xfrm>
          <a:custGeom>
            <a:avLst/>
            <a:gdLst/>
            <a:ahLst/>
            <a:rect l="l" t="t" r="r" b="b"/>
            <a:pathLst>
              <a:path w="169" h="168">
                <a:moveTo>
                  <a:pt x="0" y="168"/>
                </a:moveTo>
                <a:lnTo>
                  <a:pt x="169" y="168"/>
                </a:lnTo>
                <a:lnTo>
                  <a:pt x="169" y="0"/>
                </a:lnTo>
                <a:lnTo>
                  <a:pt x="0" y="0"/>
                </a:lnTo>
                <a:lnTo>
                  <a:pt x="0" y="168"/>
                </a:lnTo>
                <a:lnTo>
                  <a:pt x="0" y="168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21200" y="37828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65960" y="37828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92720" y="2782800"/>
            <a:ext cx="432000" cy="438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803640" y="2782800"/>
            <a:ext cx="430200" cy="438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087960" y="3352680"/>
            <a:ext cx="493920" cy="493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87960" y="3914640"/>
            <a:ext cx="49392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8640" y="3914640"/>
            <a:ext cx="51264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851160" y="3956040"/>
            <a:ext cx="514440" cy="5158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87960" y="3978360"/>
            <a:ext cx="493920" cy="493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6807240" y="4614480"/>
            <a:ext cx="179280" cy="368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50040" y="3654360"/>
            <a:ext cx="368280" cy="176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450040" y="4005360"/>
            <a:ext cx="371160" cy="172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32720" y="3914640"/>
            <a:ext cx="50940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77320" y="3772080"/>
            <a:ext cx="266760" cy="26640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55240" y="316080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93120" y="373392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55240" y="428148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5240" y="373392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17000" y="373392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Click To Preview"/>
          <p:cNvPicPr/>
          <p:nvPr/>
        </p:nvPicPr>
        <p:blipFill>
          <a:blip r:embed="rId1"/>
          <a:stretch/>
        </p:blipFill>
        <p:spPr>
          <a:xfrm>
            <a:off x="5334120" y="49528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flipH="1">
            <a:off x="5257800" y="2743200"/>
            <a:ext cx="457200" cy="60948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01000" y="2819520"/>
            <a:ext cx="304920" cy="99036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391520" y="4191120"/>
            <a:ext cx="838080" cy="9144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858000" y="2209680"/>
            <a:ext cx="1599840" cy="838440"/>
            <a:chOff x="6858000" y="2209680"/>
            <a:chExt cx="1599840" cy="838440"/>
          </a:xfrm>
        </p:grpSpPr>
        <p:sp>
          <p:nvSpPr>
            <p:cNvPr id="148" name=""/>
            <p:cNvSpPr/>
            <p:nvPr/>
          </p:nvSpPr>
          <p:spPr>
            <a:xfrm>
              <a:off x="6858000" y="2403000"/>
              <a:ext cx="691920" cy="3225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17200" y="2209680"/>
              <a:ext cx="821520" cy="3225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20320" y="2274120"/>
              <a:ext cx="864720" cy="4194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36320" y="2499840"/>
              <a:ext cx="821520" cy="4194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33560" y="2661120"/>
              <a:ext cx="735120" cy="3870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44400" y="2564280"/>
              <a:ext cx="735120" cy="3546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876920" y="3962520"/>
            <a:ext cx="914040" cy="609120"/>
            <a:chOff x="4876920" y="3962520"/>
            <a:chExt cx="914040" cy="609120"/>
          </a:xfrm>
        </p:grpSpPr>
        <p:sp>
          <p:nvSpPr>
            <p:cNvPr id="155" name=""/>
            <p:cNvSpPr/>
            <p:nvPr/>
          </p:nvSpPr>
          <p:spPr>
            <a:xfrm>
              <a:off x="4876920" y="4102920"/>
              <a:ext cx="395280" cy="234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24880" y="3962520"/>
              <a:ext cx="469440" cy="234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98040" y="4009320"/>
              <a:ext cx="494280" cy="304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21520" y="4173480"/>
              <a:ext cx="469440" cy="304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48720" y="4290480"/>
              <a:ext cx="420120" cy="2811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926240" y="4220280"/>
              <a:ext cx="420120" cy="257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4876920" y="3276720"/>
            <a:ext cx="761760" cy="609120"/>
            <a:chOff x="4876920" y="3276720"/>
            <a:chExt cx="761760" cy="609120"/>
          </a:xfrm>
        </p:grpSpPr>
        <p:sp>
          <p:nvSpPr>
            <p:cNvPr id="162" name=""/>
            <p:cNvSpPr/>
            <p:nvPr/>
          </p:nvSpPr>
          <p:spPr>
            <a:xfrm>
              <a:off x="4876920" y="3417120"/>
              <a:ext cx="329400" cy="234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00400" y="3276720"/>
              <a:ext cx="391320" cy="234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44400" y="3323520"/>
              <a:ext cx="411840" cy="304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47360" y="3487680"/>
              <a:ext cx="391320" cy="304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03360" y="3604680"/>
              <a:ext cx="349920" cy="2811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17960" y="3534480"/>
              <a:ext cx="349920" cy="257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 flipH="1">
            <a:off x="5943600" y="5257800"/>
            <a:ext cx="380880" cy="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876920" y="2590920"/>
            <a:ext cx="457200" cy="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Click To Preview"/>
          <p:cNvPicPr/>
          <p:nvPr/>
        </p:nvPicPr>
        <p:blipFill>
          <a:blip r:embed="rId2"/>
          <a:stretch/>
        </p:blipFill>
        <p:spPr>
          <a:xfrm>
            <a:off x="4343400" y="23623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Click To Preview"/>
          <p:cNvPicPr/>
          <p:nvPr/>
        </p:nvPicPr>
        <p:blipFill>
          <a:blip r:embed="rId3"/>
          <a:stretch/>
        </p:blipFill>
        <p:spPr>
          <a:xfrm>
            <a:off x="8077320" y="44956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8534520" y="4038480"/>
            <a:ext cx="0" cy="4572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181480" y="2133720"/>
            <a:ext cx="1599840" cy="837720"/>
            <a:chOff x="5181480" y="2133720"/>
            <a:chExt cx="1599840" cy="837720"/>
          </a:xfrm>
        </p:grpSpPr>
        <p:sp>
          <p:nvSpPr>
            <p:cNvPr id="174" name=""/>
            <p:cNvSpPr/>
            <p:nvPr/>
          </p:nvSpPr>
          <p:spPr>
            <a:xfrm>
              <a:off x="5181480" y="2327040"/>
              <a:ext cx="691920" cy="322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40680" y="2133720"/>
              <a:ext cx="821520" cy="322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43800" y="2197800"/>
              <a:ext cx="86472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9800" y="2423880"/>
              <a:ext cx="82152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57040" y="2584800"/>
              <a:ext cx="735120" cy="3866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67880" y="2488320"/>
              <a:ext cx="735120" cy="3546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172200" y="4800600"/>
            <a:ext cx="1599840" cy="837720"/>
            <a:chOff x="6172200" y="4800600"/>
            <a:chExt cx="1599840" cy="837720"/>
          </a:xfrm>
        </p:grpSpPr>
        <p:sp>
          <p:nvSpPr>
            <p:cNvPr id="181" name=""/>
            <p:cNvSpPr/>
            <p:nvPr/>
          </p:nvSpPr>
          <p:spPr>
            <a:xfrm>
              <a:off x="6172200" y="4993920"/>
              <a:ext cx="691920" cy="322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31400" y="4800600"/>
              <a:ext cx="821520" cy="322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34520" y="4864680"/>
              <a:ext cx="86472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950520" y="5090760"/>
              <a:ext cx="82152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47760" y="5251680"/>
              <a:ext cx="735120" cy="3866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58600" y="5155200"/>
              <a:ext cx="735120" cy="3546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7924680" y="3657600"/>
            <a:ext cx="762120" cy="609120"/>
            <a:chOff x="7924680" y="3657600"/>
            <a:chExt cx="762120" cy="609120"/>
          </a:xfrm>
        </p:grpSpPr>
        <p:sp>
          <p:nvSpPr>
            <p:cNvPr id="188" name=""/>
            <p:cNvSpPr/>
            <p:nvPr/>
          </p:nvSpPr>
          <p:spPr>
            <a:xfrm>
              <a:off x="7924680" y="3798000"/>
              <a:ext cx="329400" cy="234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048160" y="3657600"/>
              <a:ext cx="391320" cy="234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192520" y="3704400"/>
              <a:ext cx="411840" cy="304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295480" y="3868560"/>
              <a:ext cx="391320" cy="304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51120" y="3985560"/>
              <a:ext cx="349920" cy="2811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65720" y="3915360"/>
              <a:ext cx="349920" cy="257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A Logical View of the Internet?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352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IP/OSPF not very scalabl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a hierarch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, ISP’s aren’t equ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necti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TRUE EITH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5640840" y="22860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77840" y="23623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4DACC-B227-434A-9C1A-AFF34755B5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A Logical View of the Internet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208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r 1 IS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ault-free” with global reachability inf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r 2 IS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gional or country-w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r 3 IS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4648320" y="1447920"/>
            <a:ext cx="403848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952880" y="3962520"/>
            <a:ext cx="1523880" cy="990360"/>
            <a:chOff x="4952880" y="3962520"/>
            <a:chExt cx="1523880" cy="990360"/>
          </a:xfrm>
        </p:grpSpPr>
        <p:sp>
          <p:nvSpPr>
            <p:cNvPr id="202" name=""/>
            <p:cNvSpPr/>
            <p:nvPr/>
          </p:nvSpPr>
          <p:spPr>
            <a:xfrm>
              <a:off x="4952880" y="4191120"/>
              <a:ext cx="65916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99840" y="3962520"/>
              <a:ext cx="78264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488200" y="4038480"/>
              <a:ext cx="823680" cy="495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94120" y="4305240"/>
              <a:ext cx="782640" cy="495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406120" y="4495680"/>
              <a:ext cx="700200" cy="457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35320" y="4381560"/>
              <a:ext cx="70020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5257800" y="2362320"/>
            <a:ext cx="914040" cy="609120"/>
            <a:chOff x="5257800" y="2362320"/>
            <a:chExt cx="914040" cy="609120"/>
          </a:xfrm>
        </p:grpSpPr>
        <p:sp>
          <p:nvSpPr>
            <p:cNvPr id="209" name=""/>
            <p:cNvSpPr/>
            <p:nvPr/>
          </p:nvSpPr>
          <p:spPr>
            <a:xfrm>
              <a:off x="5257800" y="2502720"/>
              <a:ext cx="395280" cy="2343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05760" y="2362320"/>
              <a:ext cx="469440" cy="2343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78920" y="2409120"/>
              <a:ext cx="494280" cy="3049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02400" y="2573280"/>
              <a:ext cx="469440" cy="3049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529600" y="2690280"/>
              <a:ext cx="420120" cy="2811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07120" y="2620080"/>
              <a:ext cx="420120" cy="2577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6781680" y="3962520"/>
            <a:ext cx="1523880" cy="990360"/>
            <a:chOff x="6781680" y="3962520"/>
            <a:chExt cx="1523880" cy="990360"/>
          </a:xfrm>
        </p:grpSpPr>
        <p:sp>
          <p:nvSpPr>
            <p:cNvPr id="216" name=""/>
            <p:cNvSpPr/>
            <p:nvPr/>
          </p:nvSpPr>
          <p:spPr>
            <a:xfrm>
              <a:off x="6781680" y="4191120"/>
              <a:ext cx="65916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28640" y="3962520"/>
              <a:ext cx="78264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317000" y="4038480"/>
              <a:ext cx="823680" cy="495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22920" y="4305240"/>
              <a:ext cx="782640" cy="495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34920" y="4495680"/>
              <a:ext cx="700200" cy="457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64120" y="4381560"/>
              <a:ext cx="70020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6095880" y="5105520"/>
            <a:ext cx="1371240" cy="685800"/>
            <a:chOff x="6095880" y="5105520"/>
            <a:chExt cx="1371240" cy="685800"/>
          </a:xfrm>
        </p:grpSpPr>
        <p:sp>
          <p:nvSpPr>
            <p:cNvPr id="223" name=""/>
            <p:cNvSpPr/>
            <p:nvPr/>
          </p:nvSpPr>
          <p:spPr>
            <a:xfrm>
              <a:off x="6095880" y="5263560"/>
              <a:ext cx="59292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318000" y="5105520"/>
              <a:ext cx="70416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577560" y="5158080"/>
              <a:ext cx="74124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62960" y="5342760"/>
              <a:ext cx="70416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03760" y="5474880"/>
              <a:ext cx="630000" cy="3164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70040" y="5395680"/>
              <a:ext cx="630000" cy="2901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952880" y="3200400"/>
            <a:ext cx="1371240" cy="685800"/>
            <a:chOff x="4952880" y="3200400"/>
            <a:chExt cx="1371240" cy="685800"/>
          </a:xfrm>
        </p:grpSpPr>
        <p:sp>
          <p:nvSpPr>
            <p:cNvPr id="230" name=""/>
            <p:cNvSpPr/>
            <p:nvPr/>
          </p:nvSpPr>
          <p:spPr>
            <a:xfrm>
              <a:off x="4952880" y="3358440"/>
              <a:ext cx="59292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75000" y="3200400"/>
              <a:ext cx="70416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434560" y="3252960"/>
              <a:ext cx="74124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19960" y="3437640"/>
              <a:ext cx="70416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360760" y="3569760"/>
              <a:ext cx="630000" cy="3164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027040" y="3490560"/>
              <a:ext cx="630000" cy="2901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6934320" y="2743200"/>
            <a:ext cx="1371240" cy="685800"/>
            <a:chOff x="6934320" y="2743200"/>
            <a:chExt cx="1371240" cy="685800"/>
          </a:xfrm>
        </p:grpSpPr>
        <p:sp>
          <p:nvSpPr>
            <p:cNvPr id="237" name=""/>
            <p:cNvSpPr/>
            <p:nvPr/>
          </p:nvSpPr>
          <p:spPr>
            <a:xfrm>
              <a:off x="6934320" y="2901240"/>
              <a:ext cx="59292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56440" y="2743200"/>
              <a:ext cx="70416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16000" y="2795760"/>
              <a:ext cx="74124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01400" y="2980440"/>
              <a:ext cx="70416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42200" y="3112560"/>
              <a:ext cx="630000" cy="3164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08480" y="3033360"/>
              <a:ext cx="630000" cy="2901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5154840" y="419112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109280" y="419112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185960" y="289548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76160" y="335268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19160" y="525780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82000" y="2463840"/>
            <a:ext cx="7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er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Click To Preview"/>
          <p:cNvPicPr/>
          <p:nvPr/>
        </p:nvPicPr>
        <p:blipFill>
          <a:blip r:embed="rId1"/>
          <a:stretch/>
        </p:blipFill>
        <p:spPr>
          <a:xfrm>
            <a:off x="5334120" y="1600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Click To Preview"/>
          <p:cNvPicPr/>
          <p:nvPr/>
        </p:nvPicPr>
        <p:blipFill>
          <a:blip r:embed="rId2"/>
          <a:stretch/>
        </p:blipFill>
        <p:spPr>
          <a:xfrm>
            <a:off x="7391520" y="16002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5715000" y="4952880"/>
            <a:ext cx="609480" cy="2286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7162560" y="4952880"/>
            <a:ext cx="228600" cy="2286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20120" y="3429000"/>
            <a:ext cx="75960" cy="60948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6095520" y="2133720"/>
            <a:ext cx="1295640" cy="4572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15000" y="2971800"/>
            <a:ext cx="0" cy="2286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772400" y="2209680"/>
            <a:ext cx="76320" cy="60984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38680" y="3809880"/>
            <a:ext cx="0" cy="15264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5638680" y="2133360"/>
            <a:ext cx="76320" cy="2286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00800" y="3733920"/>
            <a:ext cx="0" cy="30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57360" y="350532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36480" y="3962520"/>
            <a:ext cx="79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Pro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372A4-F1C2-4869-ABBE-6C0F5778EA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09480" y="1600200"/>
            <a:ext cx="7772400" cy="441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Transit vs. Peering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962520" y="3809880"/>
            <a:ext cx="1752480" cy="990720"/>
            <a:chOff x="3962520" y="3809880"/>
            <a:chExt cx="1752480" cy="990720"/>
          </a:xfrm>
        </p:grpSpPr>
        <p:sp>
          <p:nvSpPr>
            <p:cNvPr id="265" name=""/>
            <p:cNvSpPr/>
            <p:nvPr/>
          </p:nvSpPr>
          <p:spPr>
            <a:xfrm>
              <a:off x="3962520" y="4038480"/>
              <a:ext cx="75780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46560" y="3809880"/>
              <a:ext cx="90000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8120" y="3885840"/>
              <a:ext cx="947160" cy="495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815000" y="4152600"/>
              <a:ext cx="900000" cy="495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83440" y="4343400"/>
              <a:ext cx="804960" cy="457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57200" y="4228920"/>
              <a:ext cx="80496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1447920" y="3809880"/>
            <a:ext cx="1371240" cy="685800"/>
            <a:chOff x="1447920" y="3809880"/>
            <a:chExt cx="1371240" cy="685800"/>
          </a:xfrm>
        </p:grpSpPr>
        <p:sp>
          <p:nvSpPr>
            <p:cNvPr id="272" name=""/>
            <p:cNvSpPr/>
            <p:nvPr/>
          </p:nvSpPr>
          <p:spPr>
            <a:xfrm>
              <a:off x="1447920" y="3967920"/>
              <a:ext cx="59292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70040" y="3809880"/>
              <a:ext cx="70416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29600" y="3862440"/>
              <a:ext cx="74124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15000" y="4047120"/>
              <a:ext cx="70416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855800" y="4179240"/>
              <a:ext cx="630000" cy="3164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22080" y="4100040"/>
              <a:ext cx="630000" cy="2901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858000" y="2133720"/>
            <a:ext cx="1371240" cy="685800"/>
            <a:chOff x="6858000" y="2133720"/>
            <a:chExt cx="1371240" cy="685800"/>
          </a:xfrm>
        </p:grpSpPr>
        <p:sp>
          <p:nvSpPr>
            <p:cNvPr id="279" name=""/>
            <p:cNvSpPr/>
            <p:nvPr/>
          </p:nvSpPr>
          <p:spPr>
            <a:xfrm>
              <a:off x="6858000" y="2291760"/>
              <a:ext cx="59292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80120" y="2133720"/>
              <a:ext cx="70416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339680" y="2186280"/>
              <a:ext cx="74124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25080" y="2370960"/>
              <a:ext cx="70416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65880" y="2503080"/>
              <a:ext cx="630000" cy="3164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932160" y="2423880"/>
              <a:ext cx="630000" cy="2901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4394520" y="403848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108920" y="2286000"/>
            <a:ext cx="79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P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785600" y="3962520"/>
            <a:ext cx="76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P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Click To Preview"/>
          <p:cNvPicPr/>
          <p:nvPr/>
        </p:nvPicPr>
        <p:blipFill>
          <a:blip r:embed="rId1"/>
          <a:stretch/>
        </p:blipFill>
        <p:spPr>
          <a:xfrm>
            <a:off x="1752480" y="52578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Click To Preview"/>
          <p:cNvPicPr/>
          <p:nvPr/>
        </p:nvPicPr>
        <p:blipFill>
          <a:blip r:embed="rId2"/>
          <a:stretch/>
        </p:blipFill>
        <p:spPr>
          <a:xfrm>
            <a:off x="7238880" y="3505320"/>
            <a:ext cx="609840" cy="609480"/>
          </a:xfrm>
          <a:prstGeom prst="rect">
            <a:avLst/>
          </a:prstGeom>
          <a:ln w="0">
            <a:noFill/>
          </a:ln>
        </p:spPr>
      </p:pic>
      <p:grpSp>
        <p:nvGrpSpPr>
          <p:cNvPr id="290" name=""/>
          <p:cNvGrpSpPr/>
          <p:nvPr/>
        </p:nvGrpSpPr>
        <p:grpSpPr>
          <a:xfrm>
            <a:off x="3429000" y="1828800"/>
            <a:ext cx="2514600" cy="1523520"/>
            <a:chOff x="3429000" y="1828800"/>
            <a:chExt cx="2514600" cy="1523520"/>
          </a:xfrm>
        </p:grpSpPr>
        <p:sp>
          <p:nvSpPr>
            <p:cNvPr id="291" name=""/>
            <p:cNvSpPr/>
            <p:nvPr/>
          </p:nvSpPr>
          <p:spPr>
            <a:xfrm>
              <a:off x="3429000" y="2180160"/>
              <a:ext cx="1087200" cy="5860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836520" y="1828800"/>
              <a:ext cx="1291320" cy="5860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12440" y="1945800"/>
              <a:ext cx="1359000" cy="7621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52280" y="2356200"/>
              <a:ext cx="1291320" cy="7621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76720" y="2649240"/>
              <a:ext cx="1154880" cy="7030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65080" y="2473200"/>
              <a:ext cx="1154880" cy="6447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4162320" y="22860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Click To Preview"/>
          <p:cNvPicPr/>
          <p:nvPr/>
        </p:nvPicPr>
        <p:blipFill>
          <a:blip r:embed="rId3"/>
          <a:stretch/>
        </p:blipFill>
        <p:spPr>
          <a:xfrm>
            <a:off x="1752480" y="21337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Click To Preview"/>
          <p:cNvPicPr/>
          <p:nvPr/>
        </p:nvPicPr>
        <p:blipFill>
          <a:blip r:embed="rId4"/>
          <a:stretch/>
        </p:blipFill>
        <p:spPr>
          <a:xfrm>
            <a:off x="3962520" y="52578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Click To Preview"/>
          <p:cNvPicPr/>
          <p:nvPr/>
        </p:nvPicPr>
        <p:blipFill>
          <a:blip r:embed="rId5"/>
          <a:stretch/>
        </p:blipFill>
        <p:spPr>
          <a:xfrm>
            <a:off x="5257800" y="52578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2133720" y="4495680"/>
            <a:ext cx="0" cy="76212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2133720" y="2971800"/>
            <a:ext cx="1295280" cy="76212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14400" y="4724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3429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$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33720" y="18432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$ 1/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34120" y="48769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343400" y="4800600"/>
            <a:ext cx="0" cy="45720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86400" y="4800600"/>
            <a:ext cx="0" cy="45720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895480" y="4267080"/>
            <a:ext cx="990720" cy="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96252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543800" y="2895480"/>
            <a:ext cx="0" cy="45720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2361960" y="2362320"/>
            <a:ext cx="990360" cy="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5790960" y="2362320"/>
            <a:ext cx="990360" cy="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562720" y="1981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$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248520" y="28954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666880" y="4815000"/>
            <a:ext cx="20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0" y="3352680"/>
            <a:ext cx="0" cy="45720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34290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$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32246-EEFA-47D6-89E0-D319B24B8F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g hierarc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ternal BGP (E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l BGP (I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C942B-55BC-43BD-943F-974C36CAAC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hoic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nk state or distance vector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universal metric – policy decis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 with distance-vecto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llman-Ford algorithm may not conver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 with link stat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tric used by routers not the same – loo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S database too large – entire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y expose policies to other AS’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2EFDF-14D1-4F2C-B1DB-E0487AB8EE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olution: Distance Vector with Path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routing update carries the entire pa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ps are detected as follow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AS gets route check if AS already in pa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yes, reject rou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no, add self and (possibly) advertise route furth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vantag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trics are local - AS chooses path, protocol ensures no loo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EF8A9-643E-4213-BEDC-C1601D8036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connecting BGP Peer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uses TCP to connect pe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ifies BG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need for periodic refresh - routes are valid until withdrawn, or the connection is lo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mental upd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gestion control on a routing protoco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or interaction during high lo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18E08-4844-4ED6-A875-1F929911A8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Hop-by-hop Model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advertises to neighbors only those routes that it u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istent with the hop-by-hop Internet paradig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, AS1 cannot tell AS2 to route to other AS’s in a manner different than what AS2 has chos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F0F05-D2E4-4E4E-AC01-6EDE86D46C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olicy with BG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provides capability for enforcing various polic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icies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art of BGP: they are provided to BGP as configuration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enforces policies by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hoosing paths from multiple alternativ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ontrolling advertisement to other AS’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11095-9B1B-46C7-A4B3-B07AC168EF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outing hierarc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rnal BGP (E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l BGP (I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0E010-0A24-4DF5-95C3-ED72B800EE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Examples of BGP Polici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multi-homed AS refuses to act as trans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mit path advertis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multi-homed AS can become transit for some AS’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ly advertise paths to some AS’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AS can favor or disfavor certain AS’s for traffic transit from itsel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26DEA-57FF-4C01-A8F0-DB83782CA8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80880" y="1600200"/>
            <a:ext cx="838224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Common Header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5" name=""/>
          <p:cNvSpPr/>
          <p:nvPr/>
        </p:nvSpPr>
        <p:spPr>
          <a:xfrm>
            <a:off x="1219320" y="2590920"/>
            <a:ext cx="68580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219320" y="3809880"/>
            <a:ext cx="32763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 (2 by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95680" y="3809880"/>
            <a:ext cx="2057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(1 by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9568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432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5308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137600" y="2173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601360" y="2131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53840" y="2131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11240" y="2131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413440" y="2894040"/>
            <a:ext cx="538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r (security and message deline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53120" y="5027760"/>
            <a:ext cx="77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s: OPEN, UPDATE, NOTIFICATION, KEEPA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1126E-3328-4BBB-9F24-12B2BFCF12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Messag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nounces AS 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es hold tim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val between keep_alive or update mess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ero interval implies no keep_ali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ep_ali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t periodically to ensure connectivit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t in place of an UPDATE mess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if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for error notif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oses TCP connection immediately after notif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7C196-9A6A-4220-9FBC-FDA0DBC537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UPDATE Messag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st of withdrawn ro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twork layer reachability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st of reachable prefix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th attrib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tr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prefixes advertised in message have same path attrib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749A1-6FD1-41B5-AA69-15A4DAF4903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ath Selection Criteria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ormation based on path attrib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tributes + external (policy)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licy consider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ference for 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sence or absence of certain 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 orig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k dynam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C4FA1-6050-4622-AF58-F9DE80E9C9B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LOCAL PREF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194680" cy="53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cal (within an AS) mechanism to provide relative priority among BGP rou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"/>
          <p:cNvSpPr/>
          <p:nvPr/>
        </p:nvSpPr>
        <p:spPr>
          <a:xfrm rot="10800000">
            <a:off x="1066320" y="2285640"/>
            <a:ext cx="708660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81080" y="2895480"/>
            <a:ext cx="1143000" cy="838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248520" y="2895480"/>
            <a:ext cx="1143000" cy="838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038480" y="2514600"/>
            <a:ext cx="1143000" cy="838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57400" y="4724280"/>
            <a:ext cx="5334120" cy="1295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362320" y="3124080"/>
            <a:ext cx="3808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629400" y="3124080"/>
            <a:ext cx="3808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362320" y="510552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29400" y="510552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2819160" y="5410080"/>
            <a:ext cx="373356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2742840" y="53341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281840" y="53481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I-BG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66040" y="5764320"/>
            <a:ext cx="64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2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01840" y="3478320"/>
            <a:ext cx="64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14760" y="5105520"/>
            <a:ext cx="125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ocal Pref = 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46080" y="5105520"/>
            <a:ext cx="121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ocal Pref =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534400" y="3478320"/>
            <a:ext cx="64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419720" y="2666880"/>
            <a:ext cx="3808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518720" y="3124080"/>
            <a:ext cx="64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14600" y="3505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781680" y="3505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743200" y="2819520"/>
            <a:ext cx="1676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800600" y="281952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D3BB4-6589-4182-9742-CD207C8713D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LOCAL PREF – Common Use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ndle traffic directed to multi-homed transit custom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ows provider to prefer a rou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ering vs. trans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fer to use peering connection, wh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general, customer &gt; peer &gt; provi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LOCAL PREF to ensure th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7E37E-B630-4851-B68B-9F475444BD6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S_PATH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st of traversed AS’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"/>
          <p:cNvSpPr/>
          <p:nvPr/>
        </p:nvSpPr>
        <p:spPr>
          <a:xfrm rot="10800000">
            <a:off x="1066320" y="2285640"/>
            <a:ext cx="708660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2362320" y="2362320"/>
            <a:ext cx="1828080" cy="1066320"/>
            <a:chOff x="2362320" y="2362320"/>
            <a:chExt cx="1828080" cy="1066320"/>
          </a:xfrm>
        </p:grpSpPr>
        <p:sp>
          <p:nvSpPr>
            <p:cNvPr id="384" name=""/>
            <p:cNvSpPr/>
            <p:nvPr/>
          </p:nvSpPr>
          <p:spPr>
            <a:xfrm>
              <a:off x="3389400" y="2384640"/>
              <a:ext cx="801000" cy="51696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62320" y="2362320"/>
              <a:ext cx="1035720" cy="535680"/>
            </a:xfrm>
            <a:custGeom>
              <a:avLst/>
              <a:gdLst/>
              <a:ahLst/>
              <a:rect l="l" t="t" r="r" b="b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362320" y="2893320"/>
              <a:ext cx="786960" cy="519840"/>
            </a:xfrm>
            <a:custGeom>
              <a:avLst/>
              <a:gdLst/>
              <a:ahLst/>
              <a:rect l="l" t="t" r="r" b="b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54680" y="2893320"/>
              <a:ext cx="1027080" cy="535320"/>
            </a:xfrm>
            <a:custGeom>
              <a:avLst/>
              <a:gdLst/>
              <a:ahLst/>
              <a:rect l="l" t="t" r="r" b="b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5638680" y="2362320"/>
            <a:ext cx="1828080" cy="1066320"/>
            <a:chOff x="5638680" y="2362320"/>
            <a:chExt cx="1828080" cy="1066320"/>
          </a:xfrm>
        </p:grpSpPr>
        <p:sp>
          <p:nvSpPr>
            <p:cNvPr id="389" name=""/>
            <p:cNvSpPr/>
            <p:nvPr/>
          </p:nvSpPr>
          <p:spPr>
            <a:xfrm>
              <a:off x="6665760" y="2384640"/>
              <a:ext cx="801000" cy="51696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38680" y="2362320"/>
              <a:ext cx="1035720" cy="535680"/>
            </a:xfrm>
            <a:custGeom>
              <a:avLst/>
              <a:gdLst/>
              <a:ahLst/>
              <a:rect l="l" t="t" r="r" b="b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638680" y="2893320"/>
              <a:ext cx="786960" cy="519840"/>
            </a:xfrm>
            <a:custGeom>
              <a:avLst/>
              <a:gdLst/>
              <a:ahLst/>
              <a:rect l="l" t="t" r="r" b="b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431040" y="2893320"/>
              <a:ext cx="1027080" cy="535320"/>
            </a:xfrm>
            <a:custGeom>
              <a:avLst/>
              <a:gdLst/>
              <a:ahLst/>
              <a:rect l="l" t="t" r="r" b="b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2362320" y="3733920"/>
            <a:ext cx="1828080" cy="1066320"/>
            <a:chOff x="2362320" y="3733920"/>
            <a:chExt cx="1828080" cy="1066320"/>
          </a:xfrm>
        </p:grpSpPr>
        <p:sp>
          <p:nvSpPr>
            <p:cNvPr id="394" name=""/>
            <p:cNvSpPr/>
            <p:nvPr/>
          </p:nvSpPr>
          <p:spPr>
            <a:xfrm>
              <a:off x="3389400" y="3756240"/>
              <a:ext cx="801000" cy="51696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62320" y="3733920"/>
              <a:ext cx="1035720" cy="535680"/>
            </a:xfrm>
            <a:custGeom>
              <a:avLst/>
              <a:gdLst/>
              <a:ahLst/>
              <a:rect l="l" t="t" r="r" b="b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62320" y="4264920"/>
              <a:ext cx="786960" cy="519840"/>
            </a:xfrm>
            <a:custGeom>
              <a:avLst/>
              <a:gdLst/>
              <a:ahLst/>
              <a:rect l="l" t="t" r="r" b="b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54680" y="4264920"/>
              <a:ext cx="1027080" cy="535320"/>
            </a:xfrm>
            <a:custGeom>
              <a:avLst/>
              <a:gdLst/>
              <a:ahLst/>
              <a:rect l="l" t="t" r="r" b="b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2362320" y="5105520"/>
            <a:ext cx="1828080" cy="1066320"/>
            <a:chOff x="2362320" y="5105520"/>
            <a:chExt cx="1828080" cy="1066320"/>
          </a:xfrm>
        </p:grpSpPr>
        <p:sp>
          <p:nvSpPr>
            <p:cNvPr id="399" name=""/>
            <p:cNvSpPr/>
            <p:nvPr/>
          </p:nvSpPr>
          <p:spPr>
            <a:xfrm>
              <a:off x="3389400" y="5127840"/>
              <a:ext cx="801000" cy="51696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362320" y="5105520"/>
              <a:ext cx="1035720" cy="535680"/>
            </a:xfrm>
            <a:custGeom>
              <a:avLst/>
              <a:gdLst/>
              <a:ahLst/>
              <a:rect l="l" t="t" r="r" b="b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362320" y="5636520"/>
              <a:ext cx="786960" cy="519840"/>
            </a:xfrm>
            <a:custGeom>
              <a:avLst/>
              <a:gdLst/>
              <a:ahLst/>
              <a:rect l="l" t="t" r="r" b="b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154680" y="5636520"/>
              <a:ext cx="1027080" cy="535320"/>
            </a:xfrm>
            <a:custGeom>
              <a:avLst/>
              <a:gdLst/>
              <a:ahLst/>
              <a:rect l="l" t="t" r="r" b="b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2743200" y="5424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743200" y="4038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743200" y="2666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95880" y="266688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029200" y="5257800"/>
            <a:ext cx="2743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0.10.0.0/16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300 200 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70.10.0.0/16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300 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4343400" y="5638680"/>
            <a:ext cx="533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76720" y="3429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276720" y="4800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191120" y="28954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595240" y="29224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70.10.0.0/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927400" y="29224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0.10.0.0/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18164-BCDC-4C21-944D-EC9EA747E7E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80880" y="1600200"/>
            <a:ext cx="838224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IDR and BG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16" name=""/>
          <p:cNvSpPr/>
          <p:nvPr/>
        </p:nvSpPr>
        <p:spPr>
          <a:xfrm>
            <a:off x="1752480" y="2743200"/>
            <a:ext cx="1752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886200" y="2666880"/>
            <a:ext cx="213372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752480" y="3886200"/>
            <a:ext cx="1752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477120" y="3505320"/>
            <a:ext cx="17524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505320" y="2971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4114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1992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112120" y="2689200"/>
            <a:ext cx="120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7.8.2.0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12120" y="3832200"/>
            <a:ext cx="120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7.8.3.0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152240" y="3222720"/>
            <a:ext cx="148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 T (provid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7.8.0.0/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021080" y="3603600"/>
            <a:ext cx="61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896840" y="5116680"/>
            <a:ext cx="33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should T announce to Z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9A16D-8DC4-4DF5-8B8E-F6737B7C993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ption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vertise all path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 1: through T can reach 197.8.0.0/2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 2: through T can reach 197.8.2.0/2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 3: through T can reach 197.8.3.0/2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this does not reduce routing tables!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would like to advertis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 1: through T can reach 197.8.0.0/2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E5AF4-88DE-46F3-9AB7-AC84BBA60BF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outing Hierarchi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lat routing doesn’t sca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node cannot be expected to have routes to every destination (or destination network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y observ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ed less information with increasing distance to destin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different approaches for rout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rea hierarch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andmark hierarchy (an alternativ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09FFA-6FFD-4373-AAA2-E194CF10D1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ets and Sequenc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33520" y="1677600"/>
            <a:ext cx="822960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: what do we list in the rout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st T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mitting information not accept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y lead to loo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st T, X, Y: misleading, appears as 3-hop pa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ution: restructure AS Path attribute a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: (Sequence (T), Set (X, Y)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Z wants to advertise pat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th: (Sequence (Z, T), Set (X, Y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practice used only if paths in set have same attribu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FD114-6344-426A-8E8A-4CD78B1F6E4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Multi-Exit Discriminator (MED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nt to external neighbors about which path into an AS to pref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-transitive attribute (we will see later wh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t AS choose different sca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d when two AS’s connect to each other in more than one pla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C3BC8-9941-4612-B86E-6C852A22539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MED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nt to R1 to use R3 over R4 lin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not compare AS40’s values to AS30’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"/>
          <p:cNvSpPr/>
          <p:nvPr/>
        </p:nvSpPr>
        <p:spPr>
          <a:xfrm rot="10800000">
            <a:off x="1066320" y="2819160"/>
            <a:ext cx="7086600" cy="350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81080" y="3048120"/>
            <a:ext cx="1143000" cy="838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248520" y="3048120"/>
            <a:ext cx="1143000" cy="838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057400" y="4876920"/>
            <a:ext cx="5334120" cy="12952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362320" y="327672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629400" y="327672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362320" y="525780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629400" y="525780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2742840" y="54864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062440" y="5916600"/>
            <a:ext cx="56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64360" y="3630600"/>
            <a:ext cx="56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719080" y="5029200"/>
            <a:ext cx="92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80.10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 = 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649480" y="5105520"/>
            <a:ext cx="92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80.10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 = 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530440" y="3630600"/>
            <a:ext cx="56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301560" y="2971800"/>
            <a:ext cx="8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80.10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 = 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3200040" y="35053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3200040" y="3962520"/>
            <a:ext cx="33526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514600" y="38098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B4E03-3DB0-4B8D-9BB5-0532F80DC8B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3200400"/>
            <a:ext cx="838224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3809880"/>
            <a:ext cx="45720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077320" y="44197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8108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16292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586880" y="4923000"/>
            <a:ext cx="5008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P1 ignores MED from IS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P2 obeys MED from IS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P2 ends up carrying traffic most of the 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523880" y="3657600"/>
            <a:ext cx="6096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523880" y="4267080"/>
            <a:ext cx="6096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143000" y="396252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133720" y="4648320"/>
            <a:ext cx="57909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133720" y="4038480"/>
            <a:ext cx="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MED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19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. used in peering or provider/subscriber scenari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lead to unfairness: may force an ISP to carry more traffic than its partne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98BFB-8EBE-4138-A3E1-8D0F021D506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ther Attribut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urce of route (IGP, EGP, othe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ress of next hop router to u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A4E09-CCB5-4858-98FA-029A806F25E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Decision Proces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ssing order of attribut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lect route with highest LOCAL-PRE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lect route with shortest AS-PA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ly MED (if routes learned from same neighbo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1EFFB-25DB-4F30-9459-C844E714D88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g hierarc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rnal BGP (E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ternal BGP (I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B20EA-05E5-4F7C-8E54-8BD4F0001ED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380880" y="4267080"/>
            <a:ext cx="838224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523880" y="4495680"/>
            <a:ext cx="2590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334120" y="4572000"/>
            <a:ext cx="228600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86200" y="51814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429000" y="495288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562720" y="495288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286000" y="45720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362320" y="541008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253760" y="468792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BG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602720" y="48769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938280" y="49528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al vs. External BG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1946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can be used by R3 and R4 to learn ro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o R1 and R2 learn route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tion 1: Inject routes in IG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ly works for small routing tab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tion 2: Use I-BG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06360-CF6E-43B3-8FBB-775C5EA7FF2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al BGP (I-BGP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e messages as E-BG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fferent rules about re-advertising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fix learned from E-BGP can be advertised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-BGP neighbor and vice-versa, bu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fix learned from one I-BGP neighbor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anno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e advertised to another I-BGP neighb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son: no AS PATH within the same AS and thus danger of loop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2D036-7D3C-4464-8A1F-67EB19B0F0A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380880" y="4419720"/>
            <a:ext cx="838224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647720" y="4773600"/>
            <a:ext cx="2590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57960" y="4849920"/>
            <a:ext cx="2286000" cy="12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010040" y="54594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552840" y="52308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686560" y="52308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409840" y="48499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486160" y="56880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376160" y="501336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BG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867040" y="50785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2943360" y="561132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308760" y="62326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-BG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 flipV="1">
            <a:off x="3171960" y="58402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 flipV="1">
            <a:off x="3171960" y="5230440"/>
            <a:ext cx="3045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 flipV="1">
            <a:off x="2104920" y="4468320"/>
            <a:ext cx="4572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485800" y="614520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9040" y="51814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014600" y="52578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al BGP (I-BGP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3 can tell R1 and R2 prefixes from R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3 can tell R4 prefixes from R1 and R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3 cannot tell R2 prefixes from R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2 can only learn via a direct connection to R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ult: I-BGP routers must be fully connected (via TCP)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ast: E-BGP sessions usually map to physical lin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8F32B-72D2-461C-A158-C9C88F1D1B3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rea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e network into are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as can have nested sub-are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traint: no path between two sub-areas of an area can exit that ar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erarchically address nodes in a net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quentially number top-level are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-areas of area are labeled relative to that ar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des are numbered relative to the smallest containing ar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63072-6DD3-491C-9083-CDC0630C11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Link Failur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types of link failur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ilure on an E-BGP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ilure on an I-BGP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failures are treated completely different in BG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8640C-F1EF-4A40-901B-21968EA0C19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380880" y="3657600"/>
            <a:ext cx="8382240" cy="28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219320" y="3962520"/>
            <a:ext cx="2133360" cy="152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895480" y="4572000"/>
            <a:ext cx="38124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638680" y="3962520"/>
            <a:ext cx="2133720" cy="152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715000" y="457200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276720" y="480060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276720" y="46483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732120" y="4923000"/>
            <a:ext cx="15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656520" y="4237200"/>
            <a:ext cx="171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BGP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206080" y="560880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8.39.1.1/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254200" y="560880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8.39.1.2/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 flipV="1">
            <a:off x="5638320" y="487656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3276720" y="4876560"/>
            <a:ext cx="759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4314240" y="4640400"/>
            <a:ext cx="235800" cy="309960"/>
            <a:chOff x="4314240" y="4640400"/>
            <a:chExt cx="235800" cy="309960"/>
          </a:xfrm>
        </p:grpSpPr>
        <p:sp>
          <p:nvSpPr>
            <p:cNvPr id="525" name=""/>
            <p:cNvSpPr/>
            <p:nvPr/>
          </p:nvSpPr>
          <p:spPr>
            <a:xfrm flipV="1">
              <a:off x="4314240" y="4645440"/>
              <a:ext cx="235800" cy="299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 flipV="1">
              <a:off x="4321080" y="4640400"/>
              <a:ext cx="221400" cy="309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Failure of an E-BGP Link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 link R1-R2 goes 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CP connection brea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GP routes are remov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is th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esir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ehavi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0A4BF-F595-4570-830D-9C17F061BE1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380880" y="3962520"/>
            <a:ext cx="838224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438280" y="4114800"/>
            <a:ext cx="3810240" cy="220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743200" y="5181480"/>
            <a:ext cx="3808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114800" y="419112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486400" y="5181480"/>
            <a:ext cx="3808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124080" y="548640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3048120" y="4495320"/>
            <a:ext cx="10666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495680" y="4495680"/>
            <a:ext cx="10670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124080" y="5356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 flipV="1">
            <a:off x="4419360" y="457164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3124080" y="457164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103720" y="4313160"/>
            <a:ext cx="15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4952520" y="4495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121560" y="5532480"/>
            <a:ext cx="20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-BGP 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426708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753200" y="4898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.1.1/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743920" y="4213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.1.2/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391200" y="4653000"/>
            <a:ext cx="380880" cy="370080"/>
            <a:chOff x="3391200" y="4653000"/>
            <a:chExt cx="380880" cy="370080"/>
          </a:xfrm>
        </p:grpSpPr>
        <p:sp>
          <p:nvSpPr>
            <p:cNvPr id="547" name=""/>
            <p:cNvSpPr/>
            <p:nvPr/>
          </p:nvSpPr>
          <p:spPr>
            <a:xfrm flipV="1">
              <a:off x="3391200" y="4830480"/>
              <a:ext cx="380880" cy="15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3535560" y="4653000"/>
              <a:ext cx="91440" cy="370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Failure on an I-BGP Link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k R1-R2 down =&gt; R1 and R2 can still exchange traffic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ndirect path through R3 must be u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-BGP and I-BGP use different conventions with respect to TCP endpoi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-BGP: no multihop -- I-BGP: multihop O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740DD-B96C-4B6D-98F7-38C2CA39F30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g hierarc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rnal BGP (E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l BGP (I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GP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ulti-Hom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bility Issu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7880F-C73A-4461-BD1A-7CBE5CE5303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Multi-hom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ulti-hom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twork has several connections to the Interne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roves reliability and performanc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accommodate link fail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ndwidth is sum of links to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ting policy right (MED, etc.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r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9F376-809C-4682-BEF4-2C20AD12120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4724280" y="1523880"/>
            <a:ext cx="419112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Multi-homing to Multiple Provider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657680" cy="45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jor issu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ress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stomer address spac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egated by ISP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egated by ISP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egated by ISP1 and ISP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tained independent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"/>
          <p:cNvSpPr/>
          <p:nvPr/>
        </p:nvSpPr>
        <p:spPr>
          <a:xfrm>
            <a:off x="510552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31988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151680" y="228600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719680" y="2954160"/>
            <a:ext cx="67644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 flipV="1">
            <a:off x="7195680" y="2954160"/>
            <a:ext cx="80028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19680" y="3921120"/>
            <a:ext cx="86220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7195680" y="3921120"/>
            <a:ext cx="80028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396120" y="3549600"/>
            <a:ext cx="92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248520" y="4419720"/>
            <a:ext cx="1290600" cy="74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6BDFE-87BF-406D-AB78-F6A766798C4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4724280" y="1523880"/>
            <a:ext cx="419112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ddress Space from one IS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4419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ustomer uses address space from ISP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advertises /16 aggreg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ustomer advertises /24 route to ISP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2 relays route to ISP1 and ISP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2-3 use /24 rou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routes direct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blems with traffic load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"/>
          <p:cNvSpPr/>
          <p:nvPr/>
        </p:nvSpPr>
        <p:spPr>
          <a:xfrm>
            <a:off x="4919400" y="281772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/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375960" y="518004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.1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543800" y="2819520"/>
            <a:ext cx="5335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7620120" y="4114800"/>
            <a:ext cx="45720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562720" y="4114800"/>
            <a:ext cx="53316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10552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31988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151680" y="228600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5719680" y="2954160"/>
            <a:ext cx="67644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 flipV="1">
            <a:off x="7195680" y="2954160"/>
            <a:ext cx="80028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719680" y="3921120"/>
            <a:ext cx="86220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7195680" y="3921120"/>
            <a:ext cx="80028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396120" y="3549600"/>
            <a:ext cx="92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248520" y="4419720"/>
            <a:ext cx="1290600" cy="74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33232-4D73-42A7-89DC-19DA926B0F9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4724280" y="1523880"/>
            <a:ext cx="419112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itfall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aggregates to a /19 at border router to reduce internal tabl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still announces /1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hears /24 from ISP2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routes packets for customer to ISP2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around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mus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ject /24 in I-BGP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"/>
          <p:cNvSpPr/>
          <p:nvPr/>
        </p:nvSpPr>
        <p:spPr>
          <a:xfrm>
            <a:off x="6477120" y="3429000"/>
            <a:ext cx="7617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775760" y="426564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.0/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5029200" y="388584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919400" y="281772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/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543800" y="2819520"/>
            <a:ext cx="5335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7620120" y="4114800"/>
            <a:ext cx="45720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10552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31988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151680" y="228600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5719680" y="2954160"/>
            <a:ext cx="67644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 flipV="1">
            <a:off x="7195680" y="2954160"/>
            <a:ext cx="80028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719680" y="3921120"/>
            <a:ext cx="86220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7195680" y="3921120"/>
            <a:ext cx="80028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396120" y="3549600"/>
            <a:ext cx="92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248520" y="4419720"/>
            <a:ext cx="1290600" cy="74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375960" y="518004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.1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3685A-928C-4938-AF9F-94B790C71A2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4724280" y="1523880"/>
            <a:ext cx="419112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ddress Space from Both ISP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38480" cy="45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and ISP2 continue to announce aggrega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ad sharing depends on traffic to two prefix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ck of reliability: if ISP1 link goes down, part of customer becomes inaccessibl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ustomer may announce prefixes to both ISPs, but still problems with longest match as in case 1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"/>
          <p:cNvSpPr/>
          <p:nvPr/>
        </p:nvSpPr>
        <p:spPr>
          <a:xfrm>
            <a:off x="5156640" y="446256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.1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518960" y="441792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4.70.1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10552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31988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151680" y="228600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5719680" y="2954160"/>
            <a:ext cx="67644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 flipV="1">
            <a:off x="7195680" y="2954160"/>
            <a:ext cx="80028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719680" y="3921120"/>
            <a:ext cx="86220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7195680" y="3921120"/>
            <a:ext cx="80028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396120" y="3549600"/>
            <a:ext cx="92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248520" y="4419720"/>
            <a:ext cx="1290600" cy="74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9399A-576A-4343-8C34-4528707EA26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4724280" y="1523880"/>
            <a:ext cx="419112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dependent Address Spac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1796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fers the most control, but at the cost of aggrega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ill need to control path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y ISP’s ignore advertisements of less than /1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"/>
          <p:cNvSpPr/>
          <p:nvPr/>
        </p:nvSpPr>
        <p:spPr>
          <a:xfrm>
            <a:off x="510552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31988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151680" y="228600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5719680" y="2954160"/>
            <a:ext cx="67644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 flipV="1">
            <a:off x="7195680" y="2954160"/>
            <a:ext cx="80028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719680" y="3921120"/>
            <a:ext cx="86220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7195680" y="3921120"/>
            <a:ext cx="80028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396120" y="3549600"/>
            <a:ext cx="92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248520" y="4419720"/>
            <a:ext cx="1290600" cy="74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A74FC-EABA-4368-971A-81CFE385E4D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g hierarc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ternet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rnal BGP (E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l BGP (I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8A6D7-DC9B-4AD0-AFC8-470281F5EB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g hierarc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rnal BGP (E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l BGP (I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GP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-Hom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bility Issu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E8D29-056D-49DC-8D2A-8945C907CF4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igns of Routing Instability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itored BGP messages at major exchan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ders of magnitude more updates than expec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lk: duplicate withdraw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eless implementation of BGP – did not keep track of information passed to pe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act of few implement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ong frequency (30/60 sec) compon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action with other local routing/links etc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655E2-D151-4BBC-BFFF-4A24B8CBD75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oute Flap Storm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45820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verloaded routers fail to send Keep_Alive message and marked as 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-BGP peers find alternate path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verloaded router re-establishes peering sess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st send large updat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creased load causes more routers to fail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44ADD-5526-4CBD-9121-8C46364EAED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oute Flap Dampen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ers now give higher priority to BGP/Keep_Alive to avoid probl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ociate a penalty with each rou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e when route fla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onentially decay penalty with ti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penalty reaches threshold, suppress rou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F9635-53EB-4EE1-95F0-BEBC1B78B72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34308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40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101480" y="3733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674600" y="228600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R,1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350760" y="487692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R,*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092960" y="487692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R,1R,*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00E21-7689-4ACF-943A-F210CBF1C86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34308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61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049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750560" y="24526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*1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436360" y="49528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*0R,-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000880" y="502920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*0R,1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4267080" y="304776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3048120" y="4191120"/>
            <a:ext cx="76176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648320" y="4114800"/>
            <a:ext cx="83808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267080" y="3200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952880" y="39625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200400" y="4038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839920" y="2452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525720" y="4952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725120" y="5043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122160" y="245268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R,1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960600" y="495288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R,*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59800" y="502920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R,1R,*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E3308-FE75-47C7-83A9-DC727E6393D2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22860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94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049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896720" y="24382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*1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417280" y="49528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*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931400" y="50292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01R,*1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486400" y="3429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1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514600" y="3443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1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2666880" y="2819520"/>
            <a:ext cx="1067040" cy="1600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876920" y="2819520"/>
            <a:ext cx="990360" cy="1447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915880" y="2452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247800" y="4952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648800" y="5043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198480" y="24382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*1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496920" y="49528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0R,-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35760" y="502920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0R,1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6A8D7-A884-439B-A4A7-2043E76B22C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22860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25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049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801320" y="24382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*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493600" y="49528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*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829520" y="50292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*01R,10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486400" y="3429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H="1" flipV="1">
            <a:off x="4876560" y="2819160"/>
            <a:ext cx="990360" cy="1447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3200400" y="4952880"/>
            <a:ext cx="2362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962520" y="5029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611320" y="2452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324120" y="4952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572480" y="5043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887080" y="24526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*1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560280" y="49528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-,*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07160" y="50292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1R,*1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90F39-1E5E-41A7-9608-B3DF46B6892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22860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56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049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877640" y="245268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563440" y="49528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*20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753560" y="50292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*01R,12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362320" y="3443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2666880" y="2819160"/>
            <a:ext cx="1067040" cy="1600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200400" y="4952880"/>
            <a:ext cx="2362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962520" y="5029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439600" y="2452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525720" y="4952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496520" y="5043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722200" y="24382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-,*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788880" y="49528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-,*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85040" y="50292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01R,10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99E14-E89D-4171-A348-3B99049153C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22860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87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049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833360" y="24382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*12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423760" y="50292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*20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071080" y="50436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*01R,-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486400" y="3429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 flipV="1">
            <a:off x="4876560" y="2819160"/>
            <a:ext cx="990360" cy="1447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3200400" y="4952880"/>
            <a:ext cx="2362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962520" y="5029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866920" y="2452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419160" y="50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828080" y="5043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255720" y="243828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-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795360" y="50292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-,*20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46840" y="50292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01R,10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4CEB7-128E-463B-A274-3252FF306630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et’s Area Hierarchy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utonomous Syste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AS)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et of routers under a single technical administration, using an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interior gateway protocol (IGP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common metrics to route packets within the AS and using an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exterior gateway protocol (EGP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route packets to other AS’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AS assigned unique I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’s peer at network exchan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F8523-ECE2-4FFD-8F84-F6CC42543D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22860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18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049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890240" y="25290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*12R,21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639760" y="50436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988640" y="50436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*01R,-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514600" y="3443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1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2666880" y="2819160"/>
            <a:ext cx="1067040" cy="1600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200400" y="4952880"/>
            <a:ext cx="2362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5029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1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490800" y="25290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*12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566760" y="50292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-,*20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94880" y="50292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01R,-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171480" y="2529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171480" y="50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725120" y="50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2E1B1-BBB9-47FA-B1C3-A6A87A340267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possible explore every possible path through networ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n-1)! Combin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mit between update messages (MinRouteAdver) reduces explor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ces router to process all outstanding mess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ical Internet failover ti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w/shorter lin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60 secon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ults in simple replacement at nod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wn lin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80 secon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ults in search of possible op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nger lin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20 secon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ults in replacement or search based on lengt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7337C-FB70-4568-8982-F94A12D79293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out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80416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in ar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node has routes to every other n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side ar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node has routes for 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other top-level areas on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e Inter-area packets to nearest appropriate border rou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result in sub-optimal path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43D7D-7524-4309-A5CE-DBE77ABC3A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History: IG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760" y="157140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common IGP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IP: Routing Information Protoco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v1: 1988, v2: 1994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SPF: Open Shortest Path Fir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1988 - 1998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S-IS: Intermediate system to intermediate system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(mid to end 90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GRP: </a:t>
            </a: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Enhanced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ior Gateway Routing Protocol (Cisco proprietary, mid-80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73CA9-1186-4F32-9B95-AF86ED60DE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History: EG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d-80s: EG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chability protocol (no shortest path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d not accommodate cycles (tree topolog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olved when all networks connected to NSF backb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ult: BGP introduced as routing protoc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test version = BGP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GP-4 supports CID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mary objective: connectivity not perform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37335-87B5-4D3B-8A8D-DCBBE193C6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Anja Feldmann</dc:creator>
  <dc:description/>
  <dc:language>en-US</dc:language>
  <cp:lastModifiedBy>anja</cp:lastModifiedBy>
  <dcterms:modified xsi:type="dcterms:W3CDTF">2004-01-08T13:00:27Z</dcterms:modified>
  <cp:revision>199</cp:revision>
  <dc:subject/>
  <dc:title>Part I: Introduction</dc:title>
</cp:coreProperties>
</file>